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54A-CA59-4836-B4A1-1EF50362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BC0-D5EB-4051-AC9B-B26BBD20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5CC-74EC-490F-9509-337BB46C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F52-181E-4248-85B2-020D3332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BEF8-C730-4340-B46D-BAE77CBD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0B11-A295-4380-8D08-82E4064A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3E54-D4AC-465C-8FD1-A1BEEB3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9988-AB85-4384-8253-3DA14C8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5EA-56D1-4865-B98E-250A2C6E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E6E-8935-4AF0-81DC-59F214C9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FAF0-6791-4395-AAE2-F32570F5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A7B-4E3E-4F35-B33B-A92F67B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E6F7-007C-4778-B96B-8A4EB0CE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03AF-F5A3-4373-8E88-F8F95CD0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8355-4F92-4817-9914-8FB1980D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69B9-3FCD-4F75-AF0D-16A9CEB5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AA3-A944-407F-AA8F-17AF692C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926-1047-4F10-A51C-BD49AECA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DD0-8AC1-45C4-AA49-45483BD5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F10-B917-4216-A1DB-7A5057CA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4A3-4366-4A1E-896C-F3701C1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4BD-AB92-450C-AC71-1B19E98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732-D715-42A2-988E-82BACBAB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296-18B1-4A33-8605-C8F884B8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DB36-DACB-44C6-AA8C-38FF8C60D4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AEF9-0589-4383-B2B0-A138142B55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licePaul_1901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nit III. The Progressive Era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4343040"/>
            <a:ext cx="8229600" cy="21718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rruption Sparks Re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political machines committed voting fraud to win ele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ook “kickbacks” (illegal payments) for helping companies get contrac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accepted bribes to allow for illegal activ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csl0685l"/>
          <p:cNvPicPr/>
          <p:nvPr/>
        </p:nvPicPr>
        <p:blipFill>
          <a:blip r:embed="rId1"/>
          <a:stretch/>
        </p:blipFill>
        <p:spPr>
          <a:xfrm>
            <a:off x="1523880" y="0"/>
            <a:ext cx="556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05520" y="533520"/>
            <a:ext cx="4038480" cy="58672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illiam Marcy Twe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.K.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“Boss Tweed”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ad of Tammany Hall (NY Democratic Political Machine.) pocketed over $200 m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 With the help of political Cartoons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omas Na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Boss Tweed was indicted on 120 counts of fraud &amp; extor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8" descr="1813222"/>
          <p:cNvPicPr/>
          <p:nvPr/>
        </p:nvPicPr>
        <p:blipFill>
          <a:blip r:embed="rId1"/>
          <a:stretch/>
        </p:blipFill>
        <p:spPr>
          <a:xfrm>
            <a:off x="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3760" y="-360"/>
            <a:ext cx="3809880" cy="65530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obert La Follet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ught for pol. Reform in Wisconsin &amp; influenced other states to reform their corrupt gov’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. Oregon pass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tive- citizens enact laws by popular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endum- allowed voters to overturn an existing la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all- allowed voter to remove an elected official from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amvoices-a0a1g6-a"/>
          <p:cNvPicPr/>
          <p:nvPr/>
        </p:nvPicPr>
        <p:blipFill>
          <a:blip r:embed="rId1"/>
          <a:stretch/>
        </p:blipFill>
        <p:spPr>
          <a:xfrm>
            <a:off x="0" y="297000"/>
            <a:ext cx="5257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. Presidents Attack Political Corrup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496040" cy="57913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Pres. Rutherford B. Hayes fired useless or corrupt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Pres. James A. Garfield- fought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alwar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pl that oppossed pol. Reform) &amp; gave jobs to reformers.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(later assassinated by lawyers who he turned down for a jo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45"/>
          <p:cNvPicPr/>
          <p:nvPr/>
        </p:nvPicPr>
        <p:blipFill>
          <a:blip r:embed="rId1"/>
          <a:stretch/>
        </p:blipFill>
        <p:spPr>
          <a:xfrm>
            <a:off x="5638680" y="838080"/>
            <a:ext cx="2248200" cy="37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ames-a-garfield-national-historic-site-1"/>
          <p:cNvPicPr/>
          <p:nvPr/>
        </p:nvPicPr>
        <p:blipFill>
          <a:blip r:embed="rId2"/>
          <a:stretch/>
        </p:blipFill>
        <p:spPr>
          <a:xfrm>
            <a:off x="5486400" y="1371600"/>
            <a:ext cx="305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4038480" cy="35053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Chester A. Arthur- passed the Pendleton Act which called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vil serva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be given jobs based on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rit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8" descr="21_01"/>
          <p:cNvPicPr/>
          <p:nvPr/>
        </p:nvPicPr>
        <p:blipFill>
          <a:blip r:embed="rId1"/>
          <a:stretch/>
        </p:blipFill>
        <p:spPr>
          <a:xfrm>
            <a:off x="4876920" y="990720"/>
            <a:ext cx="395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. Social Reformers Mobil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Social Reformers were mostly young educated men &amp; women from the middle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Focused on eliminating poverty especially among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Many were influenced by th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cial Gospel Mov’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preached salvation through service of the po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9" descr="slide0001_image001"/>
          <p:cNvPicPr/>
          <p:nvPr/>
        </p:nvPicPr>
        <p:blipFill>
          <a:blip r:embed="rId1"/>
          <a:stretch/>
        </p:blipFill>
        <p:spPr>
          <a:xfrm>
            <a:off x="4267080" y="1716120"/>
            <a:ext cx="4648320" cy="3525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. Settlement House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Settlement Houses- community centers in slum areas that provided educational, cultural &amp; social servi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Jane Adams- founded Hull House in Chicago after living in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nglish settlement ho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225px_Jane_Addams_profile"/>
          <p:cNvPicPr/>
          <p:nvPr/>
        </p:nvPicPr>
        <p:blipFill>
          <a:blip r:embed="rId1"/>
          <a:stretch/>
        </p:blipFill>
        <p:spPr>
          <a:xfrm>
            <a:off x="914400" y="1676520"/>
            <a:ext cx="2867040" cy="3886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ullHouse"/>
          <p:cNvPicPr/>
          <p:nvPr/>
        </p:nvPicPr>
        <p:blipFill>
          <a:blip r:embed="rId2"/>
          <a:stretch/>
        </p:blipFill>
        <p:spPr>
          <a:xfrm>
            <a:off x="0" y="1828800"/>
            <a:ext cx="42958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. Workers Right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890’s - 1920’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848720" cy="17524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ild Labor Refor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In the early 1900’s over a million children worked in mines &amp; fact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dust"/>
          <p:cNvPicPr/>
          <p:nvPr/>
        </p:nvPicPr>
        <p:blipFill>
          <a:blip r:embed="rId1"/>
          <a:stretch/>
        </p:blipFill>
        <p:spPr>
          <a:xfrm>
            <a:off x="1600200" y="1030320"/>
            <a:ext cx="55530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21715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Mary Harris Jones (Mother Jones)- led the “March of the Mill Children” to gain support for child labor law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By 1903 43 states passed laws outlawing the hiring of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9" descr="ihy9712111"/>
          <p:cNvPicPr/>
          <p:nvPr/>
        </p:nvPicPr>
        <p:blipFill>
          <a:blip r:embed="rId1"/>
          <a:stretch/>
        </p:blipFill>
        <p:spPr>
          <a:xfrm>
            <a:off x="1905120" y="0"/>
            <a:ext cx="50576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Improving Adult Working Condi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ult workers also faced poor working conditions with long hours, low pay and dangerous work environmen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. States like Oregon passed laws limiting women to a 10 hour work 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. Others like Maryland passed laws to assist workers that had been injured on the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Vocabul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ivism- Period of dramatic change where reformers set out address major social, political and economic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rman Anti-Trus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a Tarb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672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Labor unions &amp; reformers helped to get shorter work days, improvements in factory safe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8" descr="ewbv50"/>
          <p:cNvPicPr/>
          <p:nvPr/>
        </p:nvPicPr>
        <p:blipFill>
          <a:blip r:embed="rId1"/>
          <a:stretch/>
        </p:blipFill>
        <p:spPr>
          <a:xfrm>
            <a:off x="4629240" y="990720"/>
            <a:ext cx="45147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. Environmental Refor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33800" cy="57913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John M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rst modern environmental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vironmentalism was the idea that we should protect and conserve the countries natural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d in the Yosemite Valley in Califor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w first hand what loggers, miners and farmers were doing to the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an lobbying the federal govern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rotect the wilder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429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033800" cy="38862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Theodore Roosevelt Helps the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d the national forest from 47 million acres to 195 million ac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ubled the number of national pa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3884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4800600" y="487692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oosevelt’s conservationism even led the banning of Christmas trees in the White Ho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. Protecting 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038480" cy="59436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rror in the Meat Packing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Upton Sinclair- Wrote “The Jungle” (190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he book exposed the horrible living &amp; working conditions &amp; sanitation conditions of the meat packing indust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“…</a:t>
            </a: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there would be meat that tumbled out on the floor in the dirt &amp; sawdust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695200" y="45277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rns Meat Packing 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2" descr="madcow"/>
          <p:cNvPicPr/>
          <p:nvPr/>
        </p:nvPicPr>
        <p:blipFill>
          <a:blip r:embed="rId1"/>
          <a:stretch/>
        </p:blipFill>
        <p:spPr>
          <a:xfrm>
            <a:off x="4191120" y="1219320"/>
            <a:ext cx="4713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672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Sinclair’s work led to the Meat Inspection Act (190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alled for strict cleanliness requirements &amp; the creation of federal meat inspection progra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04920" y="47242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There is one kind of prison where the man is behind bars, and everything that he desires is outside; and there is another kind where things are behind bars, and the man is outside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2" descr="tonyarthur-340-Copy_of_sinclai"/>
          <p:cNvPicPr/>
          <p:nvPr/>
        </p:nvPicPr>
        <p:blipFill>
          <a:blip r:embed="rId1"/>
          <a:stretch/>
        </p:blipFill>
        <p:spPr>
          <a:xfrm>
            <a:off x="685800" y="0"/>
            <a:ext cx="309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61722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re Food &amp; Drug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Before this law companies falsy advertised &amp; added harmful chemicals to their products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PFDA was passed same year as Meat Insp. Act &amp; stopped the sale of contaminated foods &amp; medic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called for truth in lab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snake-oil"/>
          <p:cNvPicPr/>
          <p:nvPr/>
        </p:nvPicPr>
        <p:blipFill>
          <a:blip r:embed="rId1"/>
          <a:stretch/>
        </p:blipFill>
        <p:spPr>
          <a:xfrm>
            <a:off x="5791320" y="609480"/>
            <a:ext cx="24476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386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. Women’s Suffrage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Susan B. Anthony, Alice Paul were leaders in the fight for women’s voting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Their efforts led to the passage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. (women’s right to vot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250px-AlicePaul_19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990720"/>
            <a:ext cx="368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. How the Media Exposed Corrup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muckrakers u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yellow journalis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writing about scandal &amp; sensati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Ida Tarbell (Rockefeller oil), Lincoln Steffens (political corruption), Henry Demarest Lloyd (Big Business, power of the wealth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7" descr="bosses"/>
          <p:cNvPicPr/>
          <p:nvPr/>
        </p:nvPicPr>
        <p:blipFill>
          <a:blip r:embed="rId1"/>
          <a:stretch/>
        </p:blipFill>
        <p:spPr>
          <a:xfrm>
            <a:off x="0" y="1523880"/>
            <a:ext cx="465768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ion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bor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are your thoughts on the changes that the labor movement brought ab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you think government should be involved in the regulation in the work plac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you think the ideas behind environmentalism were correc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do you think the movement towards preserving the environment has impacted the world you live in toda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your two primary source doc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do these two documents connect to each oth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what ways do the documents represent the fulfillment of the ideals of the progressive er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. Regulating Big Busi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191120" cy="59436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 fontScale="93000"/>
          </a:bodyPr>
          <a:p>
            <a:pPr marL="49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Benefits of Bi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Created new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New affordabl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Wealth was used for philanthropy (generosity to char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il. Of $ were donated to libraries, hospitals, the arts, research, universities,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486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Sherman Anti-Trust Act (189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developed to stop trusts and monopolies from using underhanded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ex. controlling prices, trade or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Purpose was to protect compet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212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‘Busting Trusts’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though congress tried to fight monopolies in big business w/the Sherman Anti-Trust Act, it was not strictly enforc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. Theodore Roosevelt made it his mission to break up trusts &amp; monopol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003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43200" y="4724280"/>
            <a:ext cx="40384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onopoly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right, blasts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mpetition,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center. Uncle Sam, far left, readies to fire a tiny cannon from Fort Legislation. Congress passed the Sherman Antitrust Act in 189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Content Placeholder 4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65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495320" y="6019560"/>
            <a:ext cx="83844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4267080" cy="60199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Began with Northern Securities Co., the largest railroad trust by having the Justice Dept. file a law suit for violating the anti trust ac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Ida Tarbell helped to expose the monopolies in the oil bus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Both the railroads &amp; oil bus. Were broken up into smaller business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Roosevelt’s work pushed the idea that gov’t regulation (enforcement of laws) was need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867280" y="0"/>
            <a:ext cx="2581560" cy="394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3814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. Reform in Poli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4956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litical Machin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organized group that controlled the activities of a political party in a c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offered services to voters &amp; businesses in exchange for political or financial sup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03%2520No%2520Registry%2520Law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4038480" cy="61722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People received city jobs, or political appointments in exchange for their votes this is known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tron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poils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sse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led most aspects of the city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(police &amp; fire dept., sanitation, licenses, inspections etc.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amp;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ed citizen support by solving problems in comm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1871_boss_tweed"/>
          <p:cNvPicPr/>
          <p:nvPr/>
        </p:nvPicPr>
        <p:blipFill>
          <a:blip r:embed="rId1"/>
          <a:stretch/>
        </p:blipFill>
        <p:spPr>
          <a:xfrm>
            <a:off x="4267080" y="685800"/>
            <a:ext cx="487692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1:41:42Z</dcterms:created>
  <dc:creator> ccr</dc:creator>
  <dc:description/>
  <dc:language>en-US</dc:language>
  <cp:lastModifiedBy>Mark Greer</cp:lastModifiedBy>
  <dcterms:modified xsi:type="dcterms:W3CDTF">2010-11-21T21:40:25Z</dcterms:modified>
  <cp:revision>49</cp:revision>
  <dc:subject/>
  <dc:title>II. Reform for the Urban Poor</dc:title>
</cp:coreProperties>
</file>